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21.gif" ContentType="image/gif"/>
  <Override PartName="/ppt/media/image6.png" ContentType="image/png"/>
  <Override PartName="/ppt/media/image5.png" ContentType="image/png"/>
  <Override PartName="/ppt/media/image8.jpeg" ContentType="image/jpeg"/>
  <Override PartName="/ppt/media/image2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5A29-21DF-4BAE-9891-FB198198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BFBA-6E6E-41F8-BC39-84986836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CD08-84B5-4DF5-8788-1A371569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1C8-06A9-44BA-BEAB-138B285D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9253-ED68-4E0F-BE01-23916473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C0B5-BA72-4138-870F-F9CCB00F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D34C-5DEF-4F09-AF8A-B460E8EE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36F4-5280-4C16-B589-5F9CBE64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FE3-E70E-4C65-ABDB-4261155E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F811-6078-4D12-9F14-24E9691E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0E6F-BA34-4114-868B-CCB549CD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FD7-9544-44F6-AF4E-9D6D5E97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B823-94A4-4D4B-8FA1-B88ED3805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hyperlink" Target="http://www.21cnjy.com/2/119498/" TargetMode="External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4.png"/><Relationship Id="rId23" Type="http://schemas.openxmlformats.org/officeDocument/2006/relationships/hyperlink" Target="http://www.21cnjy.com/2/119508/" TargetMode="External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" descr=""/>
          <p:cNvPicPr/>
          <p:nvPr/>
        </p:nvPicPr>
        <p:blipFill>
          <a:blip r:embed="rId1"/>
          <a:stretch/>
        </p:blipFill>
        <p:spPr>
          <a:xfrm>
            <a:off x="5435640" y="3532320"/>
            <a:ext cx="3554280" cy="334152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250920" y="1916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后，和爸爸妈妈一起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鸟念书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云形标注 5"/>
          <p:cNvSpPr/>
          <p:nvPr/>
        </p:nvSpPr>
        <p:spPr>
          <a:xfrm>
            <a:off x="216000" y="3357720"/>
            <a:ext cx="5651280" cy="1726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aedef"/>
          </a:solidFill>
          <a:ln w="25560">
            <a:solidFill>
              <a:srgbClr val="a0ae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想一想，小鸟怎么会“念书”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3"/>
          <p:cNvPicPr/>
          <p:nvPr/>
        </p:nvPicPr>
        <p:blipFill>
          <a:blip r:embed="rId1"/>
          <a:stretch/>
        </p:blipFill>
        <p:spPr>
          <a:xfrm>
            <a:off x="-228600" y="2127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未命名"/>
          <p:cNvPicPr/>
          <p:nvPr/>
        </p:nvPicPr>
        <p:blipFill>
          <a:blip r:embed="rId2"/>
          <a:stretch/>
        </p:blipFill>
        <p:spPr>
          <a:xfrm>
            <a:off x="4613400" y="2365200"/>
            <a:ext cx="1162080" cy="1132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未命名"/>
          <p:cNvPicPr/>
          <p:nvPr/>
        </p:nvPicPr>
        <p:blipFill>
          <a:blip r:embed="rId3"/>
          <a:stretch/>
        </p:blipFill>
        <p:spPr>
          <a:xfrm>
            <a:off x="5719680" y="795240"/>
            <a:ext cx="105912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未命名"/>
          <p:cNvPicPr/>
          <p:nvPr/>
        </p:nvPicPr>
        <p:blipFill>
          <a:blip r:embed="rId4"/>
          <a:stretch/>
        </p:blipFill>
        <p:spPr>
          <a:xfrm>
            <a:off x="1085760" y="1211400"/>
            <a:ext cx="1295640" cy="13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2"/>
          <p:cNvPicPr/>
          <p:nvPr/>
        </p:nvPicPr>
        <p:blipFill>
          <a:blip r:embed="rId5"/>
          <a:stretch/>
        </p:blipFill>
        <p:spPr>
          <a:xfrm>
            <a:off x="1333440" y="274464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2"/>
          <p:cNvPicPr/>
          <p:nvPr/>
        </p:nvPicPr>
        <p:blipFill>
          <a:blip r:embed="rId6"/>
          <a:stretch/>
        </p:blipFill>
        <p:spPr>
          <a:xfrm>
            <a:off x="5478480" y="3179880"/>
            <a:ext cx="1058760" cy="107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2"/>
          <p:cNvPicPr/>
          <p:nvPr/>
        </p:nvPicPr>
        <p:blipFill>
          <a:blip r:embed="rId7"/>
          <a:stretch/>
        </p:blipFill>
        <p:spPr>
          <a:xfrm>
            <a:off x="4492800" y="390600"/>
            <a:ext cx="1058760" cy="107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" descr="2"/>
          <p:cNvPicPr/>
          <p:nvPr/>
        </p:nvPicPr>
        <p:blipFill>
          <a:blip r:embed="rId8"/>
          <a:stretch/>
        </p:blipFill>
        <p:spPr>
          <a:xfrm>
            <a:off x="3882960" y="132228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8" descr="2"/>
          <p:cNvPicPr/>
          <p:nvPr/>
        </p:nvPicPr>
        <p:blipFill>
          <a:blip r:embed="rId9"/>
          <a:stretch/>
        </p:blipFill>
        <p:spPr>
          <a:xfrm>
            <a:off x="314280" y="20145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9" descr="2"/>
          <p:cNvPicPr/>
          <p:nvPr/>
        </p:nvPicPr>
        <p:blipFill>
          <a:blip r:embed="rId10"/>
          <a:stretch/>
        </p:blipFill>
        <p:spPr>
          <a:xfrm>
            <a:off x="1619280" y="3333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1" descr="2"/>
          <p:cNvPicPr/>
          <p:nvPr/>
        </p:nvPicPr>
        <p:blipFill>
          <a:blip r:embed="rId11"/>
          <a:stretch/>
        </p:blipFill>
        <p:spPr>
          <a:xfrm>
            <a:off x="3564000" y="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6" descr="未命名3"/>
          <p:cNvPicPr/>
          <p:nvPr/>
        </p:nvPicPr>
        <p:blipFill>
          <a:blip r:embed="rId12"/>
          <a:stretch/>
        </p:blipFill>
        <p:spPr>
          <a:xfrm>
            <a:off x="5538960" y="93600"/>
            <a:ext cx="1076040" cy="109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7" descr="未命名3"/>
          <p:cNvPicPr/>
          <p:nvPr/>
        </p:nvPicPr>
        <p:blipFill>
          <a:blip r:embed="rId13"/>
          <a:stretch/>
        </p:blipFill>
        <p:spPr>
          <a:xfrm>
            <a:off x="2792520" y="1897200"/>
            <a:ext cx="934920" cy="95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8" descr="未命名3"/>
          <p:cNvPicPr/>
          <p:nvPr/>
        </p:nvPicPr>
        <p:blipFill>
          <a:blip r:embed="rId14"/>
          <a:stretch/>
        </p:blipFill>
        <p:spPr>
          <a:xfrm>
            <a:off x="3706920" y="2543040"/>
            <a:ext cx="1076040" cy="1098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9"/>
          <p:cNvSpPr/>
          <p:nvPr/>
        </p:nvSpPr>
        <p:spPr>
          <a:xfrm>
            <a:off x="5756400" y="460440"/>
            <a:ext cx="6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i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5"/>
          <p:cNvSpPr/>
          <p:nvPr/>
        </p:nvSpPr>
        <p:spPr>
          <a:xfrm>
            <a:off x="1238400" y="1574640"/>
            <a:ext cx="14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4"/>
          <p:cNvSpPr/>
          <p:nvPr/>
        </p:nvSpPr>
        <p:spPr>
          <a:xfrm>
            <a:off x="4162320" y="1562040"/>
            <a:ext cx="8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7"/>
          <p:cNvSpPr/>
          <p:nvPr/>
        </p:nvSpPr>
        <p:spPr>
          <a:xfrm>
            <a:off x="566640" y="2360520"/>
            <a:ext cx="7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1467000" y="3014640"/>
            <a:ext cx="75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" descr=""/>
          <p:cNvPicPr/>
          <p:nvPr/>
        </p:nvPicPr>
        <p:blipFill>
          <a:blip r:embed="rId15"/>
          <a:stretch/>
        </p:blipFill>
        <p:spPr>
          <a:xfrm>
            <a:off x="-17640" y="3664080"/>
            <a:ext cx="2140200" cy="3133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9"/>
          <p:cNvSpPr/>
          <p:nvPr/>
        </p:nvSpPr>
        <p:spPr>
          <a:xfrm flipH="1">
            <a:off x="4680000" y="2630520"/>
            <a:ext cx="104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9"/>
          <p:cNvSpPr/>
          <p:nvPr/>
        </p:nvSpPr>
        <p:spPr>
          <a:xfrm>
            <a:off x="3863880" y="2925720"/>
            <a:ext cx="9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9"/>
          <p:cNvSpPr/>
          <p:nvPr/>
        </p:nvSpPr>
        <p:spPr>
          <a:xfrm>
            <a:off x="5634000" y="349740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ü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9"/>
          <p:cNvSpPr/>
          <p:nvPr/>
        </p:nvSpPr>
        <p:spPr>
          <a:xfrm>
            <a:off x="5894280" y="1077840"/>
            <a:ext cx="8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9"/>
          <p:cNvSpPr/>
          <p:nvPr/>
        </p:nvSpPr>
        <p:spPr>
          <a:xfrm>
            <a:off x="1828800" y="646200"/>
            <a:ext cx="7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9"/>
          <p:cNvSpPr/>
          <p:nvPr/>
        </p:nvSpPr>
        <p:spPr>
          <a:xfrm>
            <a:off x="2913120" y="2182680"/>
            <a:ext cx="72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862520" y="7128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" descr="2"/>
          <p:cNvPicPr/>
          <p:nvPr/>
        </p:nvPicPr>
        <p:blipFill>
          <a:blip r:embed="rId17"/>
          <a:stretch/>
        </p:blipFill>
        <p:spPr>
          <a:xfrm>
            <a:off x="2627280" y="922320"/>
            <a:ext cx="992160" cy="1011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2" descr="2"/>
          <p:cNvPicPr/>
          <p:nvPr/>
        </p:nvPicPr>
        <p:blipFill>
          <a:blip r:embed="rId18"/>
          <a:stretch/>
        </p:blipFill>
        <p:spPr>
          <a:xfrm>
            <a:off x="7113600" y="1293840"/>
            <a:ext cx="1058760" cy="127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2"/>
          <p:cNvPicPr/>
          <p:nvPr/>
        </p:nvPicPr>
        <p:blipFill>
          <a:blip r:embed="rId19"/>
          <a:stretch/>
        </p:blipFill>
        <p:spPr>
          <a:xfrm>
            <a:off x="7763040" y="2581200"/>
            <a:ext cx="1058760" cy="1079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6"/>
          <p:cNvSpPr/>
          <p:nvPr/>
        </p:nvSpPr>
        <p:spPr>
          <a:xfrm>
            <a:off x="2852640" y="1163520"/>
            <a:ext cx="78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6"/>
          <p:cNvSpPr/>
          <p:nvPr/>
        </p:nvSpPr>
        <p:spPr>
          <a:xfrm>
            <a:off x="7196040" y="1709640"/>
            <a:ext cx="124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7" descr="未命名3"/>
          <p:cNvPicPr/>
          <p:nvPr/>
        </p:nvPicPr>
        <p:blipFill>
          <a:blip r:embed="rId20"/>
          <a:stretch/>
        </p:blipFill>
        <p:spPr>
          <a:xfrm>
            <a:off x="677880" y="120600"/>
            <a:ext cx="934920" cy="95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7" descr="未命名3"/>
          <p:cNvPicPr/>
          <p:nvPr/>
        </p:nvPicPr>
        <p:blipFill>
          <a:blip r:embed="rId21"/>
          <a:stretch/>
        </p:blipFill>
        <p:spPr>
          <a:xfrm>
            <a:off x="36360" y="1276200"/>
            <a:ext cx="935280" cy="95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未命名"/>
          <p:cNvPicPr/>
          <p:nvPr/>
        </p:nvPicPr>
        <p:blipFill>
          <a:blip r:embed="rId22"/>
          <a:stretch/>
        </p:blipFill>
        <p:spPr>
          <a:xfrm>
            <a:off x="5861160" y="2073240"/>
            <a:ext cx="1120680" cy="11415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9"/>
          <p:cNvSpPr/>
          <p:nvPr/>
        </p:nvSpPr>
        <p:spPr>
          <a:xfrm>
            <a:off x="5987880" y="2340000"/>
            <a:ext cx="9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9"/>
          <p:cNvSpPr/>
          <p:nvPr/>
        </p:nvSpPr>
        <p:spPr>
          <a:xfrm>
            <a:off x="8028000" y="2889360"/>
            <a:ext cx="106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9"/>
          <p:cNvSpPr/>
          <p:nvPr/>
        </p:nvSpPr>
        <p:spPr>
          <a:xfrm>
            <a:off x="757080" y="411120"/>
            <a:ext cx="93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9"/>
          <p:cNvSpPr/>
          <p:nvPr/>
        </p:nvSpPr>
        <p:spPr>
          <a:xfrm>
            <a:off x="173160" y="1569960"/>
            <a:ext cx="9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7"/>
          <p:cNvSpPr/>
          <p:nvPr/>
        </p:nvSpPr>
        <p:spPr>
          <a:xfrm>
            <a:off x="3767400" y="38556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üe</a:t>
            </a: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3"/>
          <p:cNvSpPr/>
          <p:nvPr/>
        </p:nvSpPr>
        <p:spPr>
          <a:xfrm>
            <a:off x="2863800" y="93672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1"/>
          <p:cNvSpPr/>
          <p:nvPr/>
        </p:nvSpPr>
        <p:spPr>
          <a:xfrm>
            <a:off x="487440" y="1557360"/>
            <a:ext cx="7756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前鼻韵母拼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uá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quān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uán jié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iànhu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圈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化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ēn nuǎn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èn lǜ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én mí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暖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绿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民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ī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u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hūn tiā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ūn shǒu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乐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ūn duì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ún zhǎo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ái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ú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队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          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12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181080" y="-14400"/>
            <a:ext cx="9501120" cy="73454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93" name="矩形 2"/>
          <p:cNvSpPr/>
          <p:nvPr/>
        </p:nvSpPr>
        <p:spPr>
          <a:xfrm>
            <a:off x="3324960" y="10987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1"/>
          <p:cNvSpPr/>
          <p:nvPr/>
        </p:nvSpPr>
        <p:spPr>
          <a:xfrm>
            <a:off x="1187280" y="1773360"/>
            <a:ext cx="73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鼻韵母拼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iàn kāng   chǎng duǎn   lóu fá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康            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短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guā fēng     péng yǒu      hán lě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风           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友          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ēng bìng  huān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í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tóu dǐ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        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迎        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ī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xióng  zhōng jiān   yǒng gǎ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        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间       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152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云形标注 2"/>
          <p:cNvSpPr/>
          <p:nvPr/>
        </p:nvSpPr>
        <p:spPr>
          <a:xfrm>
            <a:off x="498600" y="295200"/>
            <a:ext cx="5010120" cy="1440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"/>
          <p:cNvSpPr/>
          <p:nvPr/>
        </p:nvSpPr>
        <p:spPr>
          <a:xfrm>
            <a:off x="988920" y="752400"/>
            <a:ext cx="67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同学们，现在分得清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4"/>
          <p:cNvSpPr/>
          <p:nvPr/>
        </p:nvSpPr>
        <p:spPr>
          <a:xfrm>
            <a:off x="498600" y="2026800"/>
            <a:ext cx="8064360" cy="3018600"/>
          </a:xfrm>
          <a:prstGeom prst="rect">
            <a:avLst/>
          </a:prstGeom>
          <a:solidFill>
            <a:srgbClr val="f5f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牢记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an 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 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  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  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u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a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小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"n"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呢）在后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:a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u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大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"g"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哥）在后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:a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o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" descr=""/>
          <p:cNvPicPr/>
          <p:nvPr/>
        </p:nvPicPr>
        <p:blipFill>
          <a:blip r:embed="rId1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100" name="矩形 3"/>
          <p:cNvSpPr/>
          <p:nvPr/>
        </p:nvSpPr>
        <p:spPr>
          <a:xfrm>
            <a:off x="2860560" y="60156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读一读，比一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七角星 14"/>
          <p:cNvSpPr/>
          <p:nvPr/>
        </p:nvSpPr>
        <p:spPr>
          <a:xfrm>
            <a:off x="1076400" y="3976560"/>
            <a:ext cx="1109520" cy="933480"/>
          </a:xfrm>
          <a:custGeom>
            <a:avLst/>
            <a:gdLst/>
            <a:ahLst/>
            <a:rect l="l" t="t" r="r" b="b"/>
            <a:pathLst>
              <a:path w="1109662" h="933450">
                <a:moveTo>
                  <a:pt x="-2" y="600307"/>
                </a:moveTo>
                <a:lnTo>
                  <a:pt x="170874" y="415426"/>
                </a:lnTo>
                <a:lnTo>
                  <a:pt x="109890" y="184881"/>
                </a:lnTo>
                <a:lnTo>
                  <a:pt x="383956" y="184882"/>
                </a:lnTo>
                <a:lnTo>
                  <a:pt x="554831" y="0"/>
                </a:lnTo>
                <a:lnTo>
                  <a:pt x="725706" y="184882"/>
                </a:lnTo>
                <a:lnTo>
                  <a:pt x="999771" y="184881"/>
                </a:lnTo>
                <a:lnTo>
                  <a:pt x="938787" y="415426"/>
                </a:lnTo>
                <a:lnTo>
                  <a:pt x="1109665" y="600307"/>
                </a:lnTo>
                <a:lnTo>
                  <a:pt x="862739" y="702909"/>
                </a:lnTo>
                <a:lnTo>
                  <a:pt x="801753" y="933454"/>
                </a:lnTo>
                <a:lnTo>
                  <a:pt x="554831" y="830851"/>
                </a:lnTo>
                <a:lnTo>
                  <a:pt x="307909" y="933454"/>
                </a:lnTo>
                <a:lnTo>
                  <a:pt x="246923" y="7029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七角星 15"/>
          <p:cNvSpPr/>
          <p:nvPr/>
        </p:nvSpPr>
        <p:spPr>
          <a:xfrm>
            <a:off x="4611600" y="4078440"/>
            <a:ext cx="1109880" cy="933120"/>
          </a:xfrm>
          <a:custGeom>
            <a:avLst/>
            <a:gdLst/>
            <a:ahLst/>
            <a:rect l="l" t="t" r="r" b="b"/>
            <a:pathLst>
              <a:path w="1109662" h="933450">
                <a:moveTo>
                  <a:pt x="-2" y="600307"/>
                </a:moveTo>
                <a:lnTo>
                  <a:pt x="170874" y="415426"/>
                </a:lnTo>
                <a:lnTo>
                  <a:pt x="109890" y="184881"/>
                </a:lnTo>
                <a:lnTo>
                  <a:pt x="383956" y="184882"/>
                </a:lnTo>
                <a:lnTo>
                  <a:pt x="554831" y="0"/>
                </a:lnTo>
                <a:lnTo>
                  <a:pt x="725706" y="184882"/>
                </a:lnTo>
                <a:lnTo>
                  <a:pt x="999771" y="184881"/>
                </a:lnTo>
                <a:lnTo>
                  <a:pt x="938787" y="415426"/>
                </a:lnTo>
                <a:lnTo>
                  <a:pt x="1109665" y="600307"/>
                </a:lnTo>
                <a:lnTo>
                  <a:pt x="862739" y="702909"/>
                </a:lnTo>
                <a:lnTo>
                  <a:pt x="801753" y="933454"/>
                </a:lnTo>
                <a:lnTo>
                  <a:pt x="554831" y="830851"/>
                </a:lnTo>
                <a:lnTo>
                  <a:pt x="307909" y="933454"/>
                </a:lnTo>
                <a:lnTo>
                  <a:pt x="246923" y="7029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七角星 16"/>
          <p:cNvSpPr/>
          <p:nvPr/>
        </p:nvSpPr>
        <p:spPr>
          <a:xfrm>
            <a:off x="2220840" y="3894120"/>
            <a:ext cx="1154160" cy="1027080"/>
          </a:xfrm>
          <a:custGeom>
            <a:avLst/>
            <a:gdLst/>
            <a:ahLst/>
            <a:rect l="l" t="t" r="r" b="b"/>
            <a:pathLst>
              <a:path w="1154112" h="1027112">
                <a:moveTo>
                  <a:pt x="-3" y="660542"/>
                </a:moveTo>
                <a:lnTo>
                  <a:pt x="177719" y="457110"/>
                </a:lnTo>
                <a:lnTo>
                  <a:pt x="114292" y="203433"/>
                </a:lnTo>
                <a:lnTo>
                  <a:pt x="399336" y="203433"/>
                </a:lnTo>
                <a:lnTo>
                  <a:pt x="577056" y="0"/>
                </a:lnTo>
                <a:lnTo>
                  <a:pt x="754775" y="203433"/>
                </a:lnTo>
                <a:lnTo>
                  <a:pt x="1039819" y="203433"/>
                </a:lnTo>
                <a:lnTo>
                  <a:pt x="976392" y="457110"/>
                </a:lnTo>
                <a:lnTo>
                  <a:pt x="1154115" y="660542"/>
                </a:lnTo>
                <a:lnTo>
                  <a:pt x="897297" y="773439"/>
                </a:lnTo>
                <a:lnTo>
                  <a:pt x="833869" y="1027117"/>
                </a:lnTo>
                <a:lnTo>
                  <a:pt x="577056" y="914219"/>
                </a:lnTo>
                <a:lnTo>
                  <a:pt x="320243" y="1027117"/>
                </a:lnTo>
                <a:lnTo>
                  <a:pt x="256814" y="77343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七角星 17"/>
          <p:cNvSpPr/>
          <p:nvPr/>
        </p:nvSpPr>
        <p:spPr>
          <a:xfrm>
            <a:off x="5964120" y="4114800"/>
            <a:ext cx="1162080" cy="933480"/>
          </a:xfrm>
          <a:custGeom>
            <a:avLst/>
            <a:gdLst/>
            <a:ahLst/>
            <a:rect l="l" t="t" r="r" b="b"/>
            <a:pathLst>
              <a:path w="1162050" h="933450">
                <a:moveTo>
                  <a:pt x="-3" y="600307"/>
                </a:moveTo>
                <a:lnTo>
                  <a:pt x="178941" y="415426"/>
                </a:lnTo>
                <a:lnTo>
                  <a:pt x="115078" y="184881"/>
                </a:lnTo>
                <a:lnTo>
                  <a:pt x="402083" y="184882"/>
                </a:lnTo>
                <a:lnTo>
                  <a:pt x="581025" y="0"/>
                </a:lnTo>
                <a:lnTo>
                  <a:pt x="759966" y="184882"/>
                </a:lnTo>
                <a:lnTo>
                  <a:pt x="1046971" y="184881"/>
                </a:lnTo>
                <a:lnTo>
                  <a:pt x="983108" y="415426"/>
                </a:lnTo>
                <a:lnTo>
                  <a:pt x="1162053" y="600307"/>
                </a:lnTo>
                <a:lnTo>
                  <a:pt x="903469" y="702909"/>
                </a:lnTo>
                <a:lnTo>
                  <a:pt x="839604" y="933454"/>
                </a:lnTo>
                <a:lnTo>
                  <a:pt x="581025" y="830851"/>
                </a:lnTo>
                <a:lnTo>
                  <a:pt x="322445" y="933454"/>
                </a:lnTo>
                <a:lnTo>
                  <a:pt x="258580" y="7029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燕尾形 24"/>
          <p:cNvSpPr/>
          <p:nvPr/>
        </p:nvSpPr>
        <p:spPr>
          <a:xfrm rot="5400000">
            <a:off x="1581480" y="4847400"/>
            <a:ext cx="1024200" cy="107964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燕尾形 25"/>
          <p:cNvSpPr/>
          <p:nvPr/>
        </p:nvSpPr>
        <p:spPr>
          <a:xfrm rot="5400000">
            <a:off x="5388840" y="49586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1320120" y="3982680"/>
            <a:ext cx="88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 flipV="1" rot="10800000">
            <a:off x="2451240" y="4032000"/>
            <a:ext cx="90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6"/>
          <p:cNvSpPr/>
          <p:nvPr/>
        </p:nvSpPr>
        <p:spPr>
          <a:xfrm>
            <a:off x="4716360" y="4193280"/>
            <a:ext cx="260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ì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心形 13"/>
          <p:cNvSpPr/>
          <p:nvPr/>
        </p:nvSpPr>
        <p:spPr>
          <a:xfrm>
            <a:off x="2287440" y="2071800"/>
            <a:ext cx="1295640" cy="10810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e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心形 27"/>
          <p:cNvSpPr/>
          <p:nvPr/>
        </p:nvSpPr>
        <p:spPr>
          <a:xfrm>
            <a:off x="1000080" y="2021040"/>
            <a:ext cx="1297080" cy="10792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心形 28"/>
          <p:cNvSpPr/>
          <p:nvPr/>
        </p:nvSpPr>
        <p:spPr>
          <a:xfrm>
            <a:off x="4697280" y="2082960"/>
            <a:ext cx="1295640" cy="10792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u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心形 29"/>
          <p:cNvSpPr/>
          <p:nvPr/>
        </p:nvSpPr>
        <p:spPr>
          <a:xfrm>
            <a:off x="6022800" y="2082960"/>
            <a:ext cx="1295640" cy="10792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i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底"/>
          <p:cNvPicPr/>
          <p:nvPr/>
        </p:nvPicPr>
        <p:blipFill>
          <a:blip r:embed="rId2"/>
          <a:srcRect l="0" t="0" r="755" b="0"/>
          <a:stretch/>
        </p:blipFill>
        <p:spPr>
          <a:xfrm>
            <a:off x="0" y="-100080"/>
            <a:ext cx="9501120" cy="73454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2" descr=""/>
          <p:cNvPicPr/>
          <p:nvPr/>
        </p:nvPicPr>
        <p:blipFill>
          <a:blip r:embed="rId3"/>
          <a:stretch/>
        </p:blipFill>
        <p:spPr>
          <a:xfrm>
            <a:off x="295200" y="3035160"/>
            <a:ext cx="1916280" cy="3494160"/>
          </a:xfrm>
          <a:prstGeom prst="rect">
            <a:avLst/>
          </a:prstGeom>
          <a:ln w="0">
            <a:noFill/>
          </a:ln>
        </p:spPr>
      </p:pic>
      <p:sp>
        <p:nvSpPr>
          <p:cNvPr id="116" name="椭圆形标注 9"/>
          <p:cNvSpPr/>
          <p:nvPr/>
        </p:nvSpPr>
        <p:spPr>
          <a:xfrm>
            <a:off x="914400" y="711360"/>
            <a:ext cx="2592360" cy="1268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辨一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817640" y="2072160"/>
            <a:ext cx="6985080" cy="2285280"/>
          </a:xfrm>
          <a:prstGeom prst="rect">
            <a:avLst/>
          </a:prstGeom>
          <a:solidFill>
            <a:srgbClr val="f5f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区分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u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u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e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的口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小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“一”）在后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ai  \  ei \   u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小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“一”）在前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u     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    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e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9221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222"/>
          <p:cNvSpPr/>
          <p:nvPr/>
        </p:nvSpPr>
        <p:spPr>
          <a:xfrm>
            <a:off x="3564000" y="1125360"/>
            <a:ext cx="5238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文本框 3"/>
          <p:cNvSpPr/>
          <p:nvPr/>
        </p:nvSpPr>
        <p:spPr>
          <a:xfrm>
            <a:off x="-108000" y="115920"/>
            <a:ext cx="48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楷体"/>
                <a:ea typeface="华文楷体"/>
              </a:rPr>
              <a:t>读一读，记一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1" descr=""/>
          <p:cNvPicPr/>
          <p:nvPr/>
        </p:nvPicPr>
        <p:blipFill>
          <a:blip r:embed="rId2"/>
          <a:stretch/>
        </p:blipFill>
        <p:spPr>
          <a:xfrm>
            <a:off x="3657600" y="648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圆角矩形标注 2"/>
          <p:cNvSpPr/>
          <p:nvPr/>
        </p:nvSpPr>
        <p:spPr>
          <a:xfrm>
            <a:off x="250920" y="2205000"/>
            <a:ext cx="3241440" cy="13986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说一说你的名字里有哪些声母和韵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3" descr=""/>
          <p:cNvPicPr/>
          <p:nvPr/>
        </p:nvPicPr>
        <p:blipFill>
          <a:blip r:embed="rId3"/>
          <a:stretch/>
        </p:blipFill>
        <p:spPr>
          <a:xfrm>
            <a:off x="-120600" y="4797360"/>
            <a:ext cx="434340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347760" y="-23328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4"/>
          <p:cNvSpPr/>
          <p:nvPr/>
        </p:nvSpPr>
        <p:spPr>
          <a:xfrm>
            <a:off x="2397240" y="68904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" descr=""/>
          <p:cNvPicPr/>
          <p:nvPr/>
        </p:nvPicPr>
        <p:blipFill>
          <a:blip r:embed="rId2"/>
          <a:stretch/>
        </p:blipFill>
        <p:spPr>
          <a:xfrm>
            <a:off x="324000" y="-258840"/>
            <a:ext cx="2073240" cy="213372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" descr=""/>
          <p:cNvPicPr/>
          <p:nvPr/>
        </p:nvPicPr>
        <p:blipFill>
          <a:blip r:embed="rId3"/>
          <a:stretch/>
        </p:blipFill>
        <p:spPr>
          <a:xfrm>
            <a:off x="2397240" y="1263600"/>
            <a:ext cx="5905440" cy="24624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2" descr=""/>
          <p:cNvPicPr/>
          <p:nvPr/>
        </p:nvPicPr>
        <p:blipFill>
          <a:blip r:embed="rId4"/>
          <a:stretch/>
        </p:blipFill>
        <p:spPr>
          <a:xfrm>
            <a:off x="2381400" y="3751200"/>
            <a:ext cx="5876640" cy="231156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3"/>
          <p:cNvSpPr/>
          <p:nvPr/>
        </p:nvSpPr>
        <p:spPr>
          <a:xfrm>
            <a:off x="2421000" y="142236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看图，在正确的拼音后面打“√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8"/>
          <p:cNvSpPr/>
          <p:nvPr/>
        </p:nvSpPr>
        <p:spPr>
          <a:xfrm>
            <a:off x="2354400" y="344016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写拼音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1274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啊啊</cp:lastModifiedBy>
  <dcterms:modified xsi:type="dcterms:W3CDTF">2017-06-24T15:05:12Z</dcterms:modified>
  <cp:revision>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